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646-ED8C-47A2-B731-3EBA5B0E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library.thinkquest.org/C004535/aerobic_respiratio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0449-F7D0-4BEF-9415-D710DE80511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0E5-9D87-42D2-8767-DCE5BEDF309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emc.maricopa.edu/faculty/farabee/biobk/biobookglyc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517-297A-440B-AF56-778CD50CC24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120-4D77-4AA5-BC8E-36846EE5B09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: http://primawarta.blogspot.com/2009_08_01_archive.htm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73C1-9057-4B95-A34E-543432A9147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24A-D2E7-4CEB-B153-131C1BFD7CD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cetyl CoA (2C) reacts with oxaloacetate (4C) to produce citrate (6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A is rele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6EB-9F98-490D-9107-4402F16D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833-6358-4964-84F4-51DB610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C60-5276-43F2-BC7C-7BCCAD22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12F-302D-441F-9A51-9918885F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D95-39A9-4FC5-ABD8-E9911D6B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40C-62FC-430A-84BF-13C4687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805-BDA4-4016-B0FE-73CBC2C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4E6-1022-43E9-AE4C-05E7C93D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2B7-782C-4D80-B78E-C7C689C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0FC-39C6-4593-B981-62355F4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E0A-3DFC-430A-9AEB-EF7C0175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FDD-66C2-4611-8FCB-3D5B213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805B-10AB-4E18-8CD2-CD44BBCB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krebs.html" TargetMode="External"/><Relationship Id="rId2" Type="http://schemas.openxmlformats.org/officeDocument/2006/relationships/hyperlink" Target="http://highered.mcgraw-hill.com/sites/0072507470/student_view0/chapter25/animation__how_the_krebs_cycle_works__quiz_1_.html" TargetMode="External"/><Relationship Id="rId3" Type="http://schemas.openxmlformats.org/officeDocument/2006/relationships/hyperlink" Target="http://highered.mcgraw-hill.com/sites/0072507470/student_view0/chapter25/animation__how_the_krebs_cycle_works__quiz_1_.html" TargetMode="External"/><Relationship Id="rId4" Type="http://schemas.openxmlformats.org/officeDocument/2006/relationships/hyperlink" Target="http://highered.mcgraw-hill.com/sites/0072507470/student_view0/chapter25/animation__how_the_krebs_cycle_works__quiz_1_.html" TargetMode="External"/><Relationship Id="rId5" Type="http://schemas.openxmlformats.org/officeDocument/2006/relationships/hyperlink" Target="http://highered.mcgraw-hill.com/sites/0072507470/student_view0/chapter25/animation__how_the_krebs_cycle_works__quiz_1_.html" TargetMode="External"/><Relationship Id="rId6" Type="http://schemas.openxmlformats.org/officeDocument/2006/relationships/hyperlink" Target="http://highered.mcgraw-hill.com/sites/0072507470/student_view0/chapter25/animation__how_the_krebs_cycle_works__quiz_1_.html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071/bio11.swf::Electron%20Transport%20System%20and%20ATP%20Synthesi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itric Acid Cycle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fferent reactions involve the removal of carbon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xidation (Reactions 3, 4, 6, 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(with their associated electrons) are transferred to a coenzyme (NAD+ or F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one of the reactions, ATP is generated by substrate-level phosphory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upled to a reaction which has a large amount of free energy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 in the last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27040" y="1981080"/>
            <a:ext cx="62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highere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cgraw-h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confused about the Electron Transport Chain, this animation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whether oxygen is pres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 or no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decarboxyl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forming CO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as a by-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oxid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of the 2-carbon molecule, causing a reduction of NAD</a:t>
            </a:r>
            <a:r>
              <a:rPr b="0" lang="en-CA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o NAD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attachment of coenzyme A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(a derivative of vitamin B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), forming acetyl-C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785880" y="1643040"/>
            <a:ext cx="7318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lso known as the Kreb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 process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web.virginia.edu/Heidi/chapter20/Images/8883n20_05.jpg"/>
          <p:cNvPicPr/>
          <p:nvPr/>
        </p:nvPicPr>
        <p:blipFill>
          <a:blip r:embed="rId1"/>
          <a:stretch/>
        </p:blipFill>
        <p:spPr>
          <a:xfrm>
            <a:off x="128520" y="2362320"/>
            <a:ext cx="89391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rubina khan</cp:lastModifiedBy>
  <dcterms:modified xsi:type="dcterms:W3CDTF">2012-10-19T02:49:10Z</dcterms:modified>
  <cp:revision>64</cp:revision>
  <dc:subject/>
  <dc:title>Aerobic Cellular Respiration</dc:title>
</cp:coreProperties>
</file>